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CF9-541F-455F-95D9-47BD0844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4A9-F5CD-4158-A2BE-78AE0F11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348-FC31-47D8-A121-8706A296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A317-F917-42EC-8AAC-46096E7A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225-1AEA-43CF-B471-C8CE3DD4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398-0FD8-4310-AC1B-C36E1472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9012-18B1-4493-BB9A-25E34C70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EDB4-187E-4A5C-90D4-CA080CD5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05F-DC84-4DB0-AABA-BDF82ADA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631-FC1A-4E49-AE20-4CC2DE8F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428-4C69-469D-BA66-2C69C510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A60-F0D6-4A12-9919-B4D707DE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4EF5-0248-4CFE-83B2-7210C2921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0"/>
            <a:ext cx="88930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j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óv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ieren rebel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ieren tomar sus propias dec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 quieren que les traten como ni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n muy conscientes de su imagen y quier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entir que pertenecen a un grupo y no son diferent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os de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 quieren que les digan qué tienen qu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a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 quieren actuar como adul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5084640"/>
          <a:ext cx="8351640" cy="1370160"/>
        </p:xfrm>
        <a:graphic>
          <a:graphicData uri="http://schemas.openxmlformats.org/drawingml/2006/table">
            <a:tbl>
              <a:tblPr/>
              <a:tblGrid>
                <a:gridCol w="4176720"/>
                <a:gridCol w="417492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os di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n que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o la realidad es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e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s jóvenes – frases con ‘Estar’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066680"/>
            <a:ext cx="48006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r a la m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r en el p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r en la flor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r p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r sin bla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r v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r de mal hu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r que 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r en la edad del pa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r de mi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1066680"/>
            <a:ext cx="37335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in the prime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hopping m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a real cra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br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bad temp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tre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slo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at that awkward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inexperie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un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8:11:34Z</dcterms:created>
  <dc:creator>Chris Fuller</dc:creator>
  <dc:description/>
  <dc:language>en-US</dc:language>
  <cp:lastModifiedBy>Owner1</cp:lastModifiedBy>
  <dcterms:modified xsi:type="dcterms:W3CDTF">2008-09-24T18:01:17Z</dcterms:modified>
  <cp:revision>2</cp:revision>
  <dc:subject/>
  <dc:title>Los jóvenes – frases con ‘Estar’…</dc:title>
</cp:coreProperties>
</file>